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FA5-8B3C-47CD-8DDC-9FB22BC6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6AA-E19A-40E9-8C95-A0CFBF9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E56-D992-43AD-953E-4C9D2AE6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FBD-0CF0-4FB8-B722-D15390AA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312-A3CB-4455-9885-6207CE20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6E8-FF8D-4596-944A-887CCD2F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75E-97B1-4BB9-9931-9EC15E50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9B1-9099-497A-BAA5-FD446E46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DF4-42B5-4077-9828-AD795EA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A1D-475E-4D98-AAC4-95B5C00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27B-801B-45FA-8674-F9C58C0E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768-A39E-4125-88C5-A7812AE3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E966-7F80-41F4-BD02-D68AC58B2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3;&#1086;&#1074;&#1072;&#1103;%20&#1089;&#1080;&#1089;&#1090;&#1077;&#1084;&#1072;.ppt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00440" y="114300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8"/>
          <p:cNvSpPr/>
          <p:nvPr/>
        </p:nvSpPr>
        <p:spPr>
          <a:xfrm>
            <a:off x="1643040" y="228600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 совхоза площадью 2,45 га обнесён изгородью длиной 630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длину и ширину сада, если он имеет прямоугольную фор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8:19Z</dcterms:created>
  <dc:creator>Admin</dc:creator>
  <dc:description/>
  <dc:language>en-US</dc:language>
  <cp:lastModifiedBy>Admin</cp:lastModifiedBy>
  <dcterms:modified xsi:type="dcterms:W3CDTF">2004-01-01T00:18:43Z</dcterms:modified>
  <cp:revision>2</cp:revision>
  <dc:subject/>
  <dc:title>Слайд 1</dc:title>
</cp:coreProperties>
</file>